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0F9-5FBE-415F-881A-59CC5FD3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570-BD9A-4A72-8EA0-047241D7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185-809B-41B7-A652-5E47BAB4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4F9-C386-4EF3-99A6-663C282C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B742-87D6-43F3-A3AE-09615FA9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A98D-1109-420B-B6E9-FA5682A0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A116-8316-4AC8-9C4D-F07DBE2F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2DE2-0C13-4440-813E-D4E2EF0C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7BDB-4350-4D57-B983-F31D2A9A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7232-4665-4D85-82DA-31948379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E41D-9533-4CDD-8836-22559E64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703-E0D1-4CC4-8404-1CF0EFC3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92ED-EEEB-4D1E-9620-2080D6B2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1FE4-AE06-41EE-9718-B96F68F6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4B7D-61F3-42D2-B84F-F243960B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7A71-9E93-426A-991E-E2768534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75CD-9B8D-47D9-8154-ECDFBD09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618-5E00-4BF3-9429-22C54974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A5D-95C3-40FE-BE10-26077BFD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306-CB19-4253-B8E6-74F9B85C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BB6-5516-4B0E-9721-99EBE1CC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33C-129E-4B0C-81A7-F82C46D2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7BA-BB1B-4FF3-97AB-7B91DE43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DBB-90AF-4153-ACD1-E22DF8FE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5B93-9C8E-4B22-92D7-C106B66121C7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300C-6983-43C1-8573-484101E8183A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40488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it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876560" y="4368600"/>
            <a:ext cx="425916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Atoms, Elements, and the Periodic 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matt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figure 1 on page 72. What in these pictures is mat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er is anything that has mass and takes up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some things that are not made up of ma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to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mall particle that makes up most ma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your science journal, draw what you think and atom looks 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one time was believed to be a solid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broken into even smaller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, electron, and pro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eek philosopher, lived from 460BC to 370 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imed that each type of matter was made up of specific ato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example: solid water (ice) is made of different atoms than liquid 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 ideas were ignored until the early 1800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458px-Coypel_Democritus"/>
          <p:cNvPicPr/>
          <p:nvPr/>
        </p:nvPicPr>
        <p:blipFill>
          <a:blip r:embed="rId1"/>
          <a:stretch/>
        </p:blipFill>
        <p:spPr>
          <a:xfrm>
            <a:off x="5950080" y="2362320"/>
            <a:ext cx="23288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voisier’s Contrib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chemist, lived 2000 years after Democri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of Conservation of Matter- Matter is neither created nor destroyed. It simply changes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you burn wood, what happens to the lo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ohn Dalt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d that matter is made up of atoms that are too small to be se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imed that each element was made up of specific atoms that were unique to that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findings are known as the atomic theory of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J Thoms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ed that electricity flowed from negative to positive components of a sealed tube and could be bent by a mag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knew that opposites attract and the beam was traveling towards a positive charge, so therefore the beam must be made of negatively charged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ons- subatomic particles with a negative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 what keeps us from being electrocut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n’t get a shock when you touch everything, so what must also be present in the ato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ositively charged parti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10, his team shot gold foil with alpha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itively charged partic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all of the alpha particles did not pass through the foil, he predicted that most of the atom was made up of empty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therford’s results provided him with information to name the nucl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cleus- Positively charged central part of the at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s prot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mes Chadwic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istant to Rutherf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vered the neutron- neutral particle in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nd this data when he noticed that the gold atoms in the foil had released some mass with no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unknown mass is what Chadwick called the neu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Figure 8 on pg. 7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odel is the accepted atomic model (Bohr’s Mod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 the negatively charged electron cloud and the positively charged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Vocabul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w of Conservation of Ma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ot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s Num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M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Me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lo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t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ou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x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w Resear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n science has advanced atomic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ons and electrons have whole charges +1 or 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rticles in the nucleus are now broken down into even smaller particles called qua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se particles are identified by their spin pattern and have a fractional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p, down, strange, charmed, top, and bott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implest Mat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ment- matter made up of only one kind of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least 115 elements are known and 90 of them occur naturally on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natural elements are known as synthetic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ed from nuclear reactions in machines known as particle acceler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ganizing the El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mitri Mendeleev organized the first periodic table in order of each element’s 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table only included 60 known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dern Periodic Table is organized by atomic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Periodic 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Structure and Organization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0948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Important Vocabular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09480" y="1981080"/>
            <a:ext cx="34671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w of Conservation of 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229280" y="1981080"/>
            <a:ext cx="34668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ot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s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lo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x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an Ato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tom is the simplest form of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is made of three  major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Proton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itive Charge, In the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lectron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gative Charge, In the Shells and Orbit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eutron -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Charge, In the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t’s Draw an At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Oval 3"/>
          <p:cNvSpPr/>
          <p:nvPr/>
        </p:nvSpPr>
        <p:spPr>
          <a:xfrm>
            <a:off x="3352680" y="2666880"/>
            <a:ext cx="2590920" cy="24386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3581280" y="3200400"/>
            <a:ext cx="609840" cy="609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35812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4191120" y="4419720"/>
            <a:ext cx="609480" cy="6094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2743200" y="2057400"/>
            <a:ext cx="4038480" cy="3809880"/>
          </a:xfrm>
          <a:prstGeom prst="ellipse">
            <a:avLst/>
          </a:prstGeom>
          <a:noFill/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4114800" y="2819520"/>
            <a:ext cx="609480" cy="609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41148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3657600" y="3886200"/>
            <a:ext cx="609480" cy="6094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3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14"/>
          <p:cNvSpPr/>
          <p:nvPr/>
        </p:nvSpPr>
        <p:spPr>
          <a:xfrm>
            <a:off x="5410080" y="5334120"/>
            <a:ext cx="609840" cy="609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15"/>
          <p:cNvSpPr/>
          <p:nvPr/>
        </p:nvSpPr>
        <p:spPr>
          <a:xfrm>
            <a:off x="4876920" y="2895480"/>
            <a:ext cx="609480" cy="609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4876920" y="2895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19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4343400" y="3581280"/>
            <a:ext cx="609480" cy="6098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1752480" y="1523880"/>
            <a:ext cx="6096240" cy="5181840"/>
          </a:xfrm>
          <a:prstGeom prst="ellipse">
            <a:avLst/>
          </a:prstGeom>
          <a:noFill/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22"/>
          <p:cNvSpPr/>
          <p:nvPr/>
        </p:nvSpPr>
        <p:spPr>
          <a:xfrm>
            <a:off x="6705720" y="1981080"/>
            <a:ext cx="609480" cy="609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23"/>
          <p:cNvSpPr/>
          <p:nvPr/>
        </p:nvSpPr>
        <p:spPr>
          <a:xfrm>
            <a:off x="35053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24"/>
          <p:cNvSpPr/>
          <p:nvPr/>
        </p:nvSpPr>
        <p:spPr>
          <a:xfrm>
            <a:off x="68580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25"/>
          <p:cNvSpPr/>
          <p:nvPr/>
        </p:nvSpPr>
        <p:spPr>
          <a:xfrm>
            <a:off x="548640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tice a few things about our atom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proton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neutron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electron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object in the cen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ring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electrons are on the outside 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prot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rotons is also the atomic number of the atom/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Hydrogen, atomic symbol H, has 1 proton since it is element #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protons does each of these hav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ryllium, Oxygen, Nitrogen, Xenon, Carb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me the element with the number of protons show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4, 27, 5, 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Neutr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add the number of neutrons and protons, you get the atomic 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the decimal number underneath the atomic symb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gnesium is element #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many proton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atomic mass is 24.3050, which rounds to 2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many neutrons does Magnesium hav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unch La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into your Science Te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the materials provided as I give you dir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: Will you see all three states of matter in this lab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your hypoth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 the Experi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electr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are the negatively charged particles located in the rings around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exactly the same number of protons as there are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electr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dium – Atomic Number 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licon – Atomic Number 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senic – Atomic Number 3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thing in the cent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s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two particles are in the nucleu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overall charge does the nucleus hav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the ring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rings tells you on which row the element is loc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gen has how many ring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rings does Helium hav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Carb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Iod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the outer electr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uter ring electrons are called valence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tell you to which column or family the element belo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Note: This only applies to families 1,2 and 13-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valence electrons does Hydrogen have? Neon? Aluminu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for Rules on Rings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ng Ru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ner ring, #1, can only have 2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econd ring can have up to 8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hird ring can have up to 18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ourth ring can have up to 32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rings up to ring #7, the last ring, can have up to 32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Y VOCAB: Energy Level – the rings containing electrons are actually called energy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753400" cy="64771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380880" y="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838080" y="609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62485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67816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72388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76960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81532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8610480" y="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8534520" y="380880"/>
            <a:ext cx="457200" cy="685800"/>
          </a:xfrm>
          <a:prstGeom prst="rect">
            <a:avLst/>
          </a:prstGeom>
          <a:noFill/>
          <a:ln w="82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1371600" y="1523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ransition Metals DO NOT Follow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16"/>
          <p:cNvSpPr/>
          <p:nvPr/>
        </p:nvSpPr>
        <p:spPr>
          <a:xfrm>
            <a:off x="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18"/>
          <p:cNvSpPr/>
          <p:nvPr/>
        </p:nvSpPr>
        <p:spPr>
          <a:xfrm>
            <a:off x="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19"/>
          <p:cNvSpPr/>
          <p:nvPr/>
        </p:nvSpPr>
        <p:spPr>
          <a:xfrm>
            <a:off x="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058320" cy="5486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1752480" y="2286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aming the Elemental 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TextBox 5" descr=""/>
          <p:cNvPicPr/>
          <p:nvPr/>
        </p:nvPicPr>
        <p:blipFill>
          <a:blip r:embed="rId2"/>
          <a:stretch/>
        </p:blipFill>
        <p:spPr>
          <a:xfrm>
            <a:off x="-12600" y="0"/>
            <a:ext cx="744480" cy="154296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6" descr=""/>
          <p:cNvPicPr/>
          <p:nvPr/>
        </p:nvPicPr>
        <p:blipFill>
          <a:blip r:embed="rId3"/>
          <a:stretch/>
        </p:blipFill>
        <p:spPr>
          <a:xfrm>
            <a:off x="457200" y="-219240"/>
            <a:ext cx="646200" cy="234000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7" descr=""/>
          <p:cNvPicPr/>
          <p:nvPr/>
        </p:nvPicPr>
        <p:blipFill>
          <a:blip r:embed="rId4"/>
          <a:stretch/>
        </p:blipFill>
        <p:spPr>
          <a:xfrm>
            <a:off x="8004240" y="450720"/>
            <a:ext cx="646200" cy="167004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8" descr=""/>
          <p:cNvPicPr/>
          <p:nvPr/>
        </p:nvPicPr>
        <p:blipFill>
          <a:blip r:embed="rId5"/>
          <a:stretch/>
        </p:blipFill>
        <p:spPr>
          <a:xfrm>
            <a:off x="8534520" y="-231840"/>
            <a:ext cx="506160" cy="1774800"/>
          </a:xfrm>
          <a:prstGeom prst="rect">
            <a:avLst/>
          </a:prstGeom>
          <a:ln w="0">
            <a:noFill/>
          </a:ln>
        </p:spPr>
      </p:pic>
      <p:sp>
        <p:nvSpPr>
          <p:cNvPr id="241" name="Straight Connector 10"/>
          <p:cNvSpPr/>
          <p:nvPr/>
        </p:nvSpPr>
        <p:spPr>
          <a:xfrm flipH="1">
            <a:off x="6170760" y="1982880"/>
            <a:ext cx="288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11"/>
          <p:cNvSpPr/>
          <p:nvPr/>
        </p:nvSpPr>
        <p:spPr>
          <a:xfrm flipH="1">
            <a:off x="6172200" y="2514600"/>
            <a:ext cx="5335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14"/>
          <p:cNvSpPr/>
          <p:nvPr/>
        </p:nvSpPr>
        <p:spPr>
          <a:xfrm flipH="1">
            <a:off x="6705720" y="2514600"/>
            <a:ext cx="144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Straight Connector 15"/>
          <p:cNvSpPr/>
          <p:nvPr/>
        </p:nvSpPr>
        <p:spPr>
          <a:xfrm flipH="1">
            <a:off x="7162920" y="3048120"/>
            <a:ext cx="144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Straight Connector 16"/>
          <p:cNvSpPr/>
          <p:nvPr/>
        </p:nvSpPr>
        <p:spPr>
          <a:xfrm flipH="1">
            <a:off x="7620120" y="3657600"/>
            <a:ext cx="144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Straight Connector 17"/>
          <p:cNvSpPr/>
          <p:nvPr/>
        </p:nvSpPr>
        <p:spPr>
          <a:xfrm flipH="1">
            <a:off x="8077320" y="4191120"/>
            <a:ext cx="144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traight Connector 18"/>
          <p:cNvSpPr/>
          <p:nvPr/>
        </p:nvSpPr>
        <p:spPr>
          <a:xfrm flipH="1">
            <a:off x="6629400" y="3048120"/>
            <a:ext cx="5335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7162560" y="3657600"/>
            <a:ext cx="53316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7619760" y="4191120"/>
            <a:ext cx="53316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6172200" y="198108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6629400" y="251460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6629400" y="3048120"/>
            <a:ext cx="533520" cy="60948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7162920" y="3048120"/>
            <a:ext cx="457200" cy="60948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7162920" y="365760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7620120" y="365760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7620120" y="4191120"/>
            <a:ext cx="457200" cy="53316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8077320" y="4191120"/>
            <a:ext cx="457200" cy="53316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30"/>
          <p:cNvSpPr/>
          <p:nvPr/>
        </p:nvSpPr>
        <p:spPr>
          <a:xfrm>
            <a:off x="1447920" y="2590920"/>
            <a:ext cx="4647960" cy="459720"/>
          </a:xfrm>
          <a:prstGeom prst="rect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Transition Me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1"/>
          <p:cNvSpPr/>
          <p:nvPr/>
        </p:nvSpPr>
        <p:spPr>
          <a:xfrm>
            <a:off x="6629400" y="1981080"/>
            <a:ext cx="2362320" cy="53352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36"/>
          <p:cNvSpPr/>
          <p:nvPr/>
        </p:nvSpPr>
        <p:spPr>
          <a:xfrm>
            <a:off x="8534520" y="1371600"/>
            <a:ext cx="457200" cy="60948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7086600" y="2514600"/>
            <a:ext cx="1905120" cy="53352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7620120" y="3048120"/>
            <a:ext cx="1371600" cy="60948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5"/>
          <p:cNvSpPr/>
          <p:nvPr/>
        </p:nvSpPr>
        <p:spPr>
          <a:xfrm>
            <a:off x="8077320" y="3657600"/>
            <a:ext cx="914400" cy="53352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48"/>
          <p:cNvSpPr/>
          <p:nvPr/>
        </p:nvSpPr>
        <p:spPr>
          <a:xfrm>
            <a:off x="8534520" y="4191120"/>
            <a:ext cx="457200" cy="53316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ganization on the Periodic 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ws are called fami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the same number of energy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umns are called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the same number of valence electrons and bond simila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know about isotop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with the same number of protons, but different numbers of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otopes determined by mass number (the sum of protons and neutrons in the nucle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s number on the periodic table is the average mass of the el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ydrogen Isoto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drogen has three isoto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t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proton, 0 neutr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st abunda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u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proton, 1 neutr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adioact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it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proton, 2 neutr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adioact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5" descr="isotopes"/>
          <p:cNvPicPr/>
          <p:nvPr/>
        </p:nvPicPr>
        <p:blipFill>
          <a:blip r:embed="rId1"/>
          <a:stretch/>
        </p:blipFill>
        <p:spPr>
          <a:xfrm>
            <a:off x="5319720" y="2957400"/>
            <a:ext cx="26575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unch Lab Discu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appened to the paper tow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caused this resul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er was the liquid state of ma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per towel was a sol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ir in the cup was the 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is matter because it occupies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ement categor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s- shiny, metallic luster, good conductors of electricity and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metals are solid at room temperature except mercury (liqui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metals- usually dull in appearance, brittle (can change shape)– be familiar with figure 1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ually poor conductors of electric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ny are gasses at room te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loids- characteristics of metals and nonmetals, found in a stairstep pattern between metals and non-met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are solid at room te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talloid Stairste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5" descr="periodic%20table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ounds and Mixt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ce- mixture with the same chemical properties through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und- substance whose smallest unit is made up of atoms of two or more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properties different than the elements that make up the comp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ound Examp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properties of hydro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properties of oxy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properties of the compound made up of 2 hydrogen atoms and 1 oxygen ato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2 hydrogen and 2 oxy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oun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form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ing the form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fixes: mono-, di-, tri-, quad-, pent- hex-, hepto-, octo-, nono- deca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ffixes: -ine, -ane, -ite, -ate, -o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practice a few naming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me thes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dium (Na) + Chlorine (Cl) = Na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(H) + Oxygen (O)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(H) + Chlorine (Cl) = H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bon (C) + Oxygen (O) =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Hydrogen (H) + 3 Carbon (C)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carbons have special naming techniques- we will discuss these techniques in Chapter 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wo substances (elements or compounds) do not combine to make a new substance when mi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appens when you combine oil and wa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e the bottle I have prepar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wo kinds of Mixt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eous- the same through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: Teas, Soda, Fruit flavored soft dri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terogeneous- larger components that are visibly different from one an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: Salads, cookies, mixed nu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Quick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and name the parts of an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5 things that are matter and five things that are not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fference between atomic mass and atomic numb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and describe the Isotopes of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quick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an isotope and what makes them possib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: An atom of Phosphorous has 15 protons and 15 neutrons, what is the mass numb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: The element Tungsten has a mass number of 184, how many neutrons does Tungsten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un Scientist Spot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onardo di ser Piero da Vin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Self-portrait of Leonardo da Vinci"/>
          <p:cNvPicPr/>
          <p:nvPr/>
        </p:nvPicPr>
        <p:blipFill>
          <a:blip r:embed="rId1"/>
          <a:stretch/>
        </p:blipFill>
        <p:spPr>
          <a:xfrm>
            <a:off x="1973160" y="2819520"/>
            <a:ext cx="2111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Quick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fference between homogeneous and heterogeneous mixtu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hree types of elements are there and give properties of those elemen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cts about da Vinc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rn April 15, 1452 to unmarried parents, thus received no last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ver attended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s a veget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left handed, and wrote in mirrored scri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ver marr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k was his favorite color…it made his complexion look fre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ved animals…would buy caged birds just to set them f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ft over half of his works incompl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personally destroyed many of his drawings and pain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ted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ona Lis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Last Supp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along with many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cinated with human anatomy – dissected over 300 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etche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Vitruvian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Inven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chute, hang glider, helicopter, airplane, barreled organ, machine gun, armored tank, motor car, humanoid robot, 220 meter bridge – still in use to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cal Engi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an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Mak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trono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hematic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3:52:25Z</dcterms:created>
  <dc:creator>Adam's Homepage</dc:creator>
  <dc:description/>
  <dc:language>en-US</dc:language>
  <cp:lastModifiedBy>Adam Goosby</cp:lastModifiedBy>
  <dcterms:modified xsi:type="dcterms:W3CDTF">2013-09-19T14:30:31Z</dcterms:modified>
  <cp:revision>13</cp:revision>
  <dc:subject/>
  <dc:title>Chapter 3</dc:title>
</cp:coreProperties>
</file>